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5D2-9CFB-410B-A8B8-BA405972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9E9-8BBD-4D28-BB85-BDBE791B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EAB88-4491-4E9D-A25A-0407D43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5FB30-92C8-4D1D-920A-C331B58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51420-11F0-40C0-B8A5-72A2FCFA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1B94F-33D1-46CC-A97C-F52F84A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D8038-1007-4BF2-9094-EFECB2C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A243C-C4EA-4326-9F55-CB3AC228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04C9A-E3A2-408E-8DCA-B73B18F9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FA21F-3E0C-4B9C-91F4-7848B07B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CBCCE-EAAF-423F-B516-3073394A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C8D9F-BFD9-450D-AE11-8E890711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A22-1D35-49EB-911C-EEB5115E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8359D-5D32-4D48-AE71-4B2C10A4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90918-15DD-4255-A180-B716C08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43813-2DC7-4F98-93EF-067ED4B2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C4548-4DA1-4CC4-A4E5-4E3201EC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5D0D2-9F87-428D-804F-3A420FE0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43A9C-F613-47FB-82A1-E0EA90AF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25373-7915-4CDB-ABF0-49567C86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2B23A-D343-4F01-992D-FC6D2726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58021-AFFA-416E-8A61-E2E9B3C3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AB8E-929B-4FCD-9A08-39F5D94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E01-F3D4-4661-A212-BA519AFA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06648-B721-4D8A-A6C5-4EB3B08A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AF0A3-3606-4608-B155-7283418D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3A9DC-C0CB-4071-A30B-EF8EFA36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0BC99-2527-4B3D-9C1B-E77B45A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26E1E-CBDD-4772-B646-7FB1428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16EFF-227F-4A48-AE33-D8B6C44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ABD82-06F7-428F-967E-2B2517B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F02D3-CDB6-4DFA-AC0B-271F9BB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3FD92-56F0-4184-BDCA-BBCC6F7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74430-40A4-4FA6-8962-24833E0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5449-F185-465E-9102-243E2802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D67F9-D789-4C3D-9493-36438D3D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2A37A-EC7B-40D5-9FEA-6B66B023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4BD2-F1CB-4613-A8AD-38DAF72B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67B-E45B-499F-A037-FB6BB248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CF38-6290-4292-A799-E3160E6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2CA9-0A29-44EE-BEF0-3FA580EB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63E-FD0F-409E-AD74-1FD1D4D7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24CD-252E-44A5-9A08-410BDEE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314C-F1F2-4D8E-B592-17699BD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C60-25C9-40D1-9361-D96F2F32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F5B9-9C31-4BB1-9A8C-C2FB1C3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354A-29AE-4B86-9ECF-40901B3C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3DCF-1540-435F-933E-4C5FE5A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CDAD-1610-44B5-9B12-556D1B34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B107-DAD3-48BA-A4ED-2819F3D8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5B6A-DB3B-4FF7-9D46-6D762D62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4BD2-A139-4C1E-A429-447D57BE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E8FD-8BC5-4F12-983A-E2EEEA8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E1CD-6187-46D6-8E19-BFC08AF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B1E2-37B2-41F1-B76A-38FB953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D49-9B47-46F7-9970-0EE8DB63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74399-54CB-48DF-8ADA-8ACF2D6D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B811-10F4-4807-9779-8CE9DAEE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EFD2-D7EC-4C61-9281-F866DC4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9E71-7564-4D51-8875-A0843BC0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0A5A-D593-43AD-B528-27CBBDE2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D7AC-4DFA-4E13-A1D0-8155AD58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82FE5-9F54-451E-BBE8-CC539113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3E22-047C-4ADD-8BFE-0569535A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6D6C-808C-4214-894E-1A9176AA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B3C5-411E-4D9D-AE0A-2DEF6250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1E9-56AD-41C5-A04A-B066D551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9E45-7A13-4B9D-8470-D803CA9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B1E3-A8D4-41C4-A0CB-D2657A63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C2119-7CB5-4B7B-9F5E-3010375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3879-6D56-4B23-B3DA-1807B21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3D01-7C19-440D-910C-08A0D08B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F964-732F-4652-9879-B4527BA6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01A2-3FD6-4A05-A2CB-2F5889C1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7803-4859-43F1-B6DA-89B202FB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C82B8-7F16-4B7F-8441-BF3C8444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886C-D631-46ED-AE12-6EAC55B9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FDC-0E59-45CA-9519-FF75368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9C4E1-3422-4F18-A3A3-762394C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6447-75EA-4CC5-BF96-E81058D7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323C4-1545-45F6-9D49-F43E18C9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F2B15-3DDB-4981-B307-4C3F2BC1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933C-B8D4-4C35-A971-33E498FF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BC05-B199-4BF4-9A3F-781A71FD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AD132-376F-40BB-8ED3-C75A381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0466-4DF5-4F00-B721-A1B6A5A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6713-41F2-40D3-AEBD-2FADC20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92AC8-2797-4B61-912F-2167B88A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DE6-4DF9-4D9C-B315-229AE71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7A97-17D3-4B2A-A97D-EBE60ED2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ADEBB-4A9C-4D92-85BD-3EF170EE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F26D-26F6-4BA3-80E3-91AB822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AAC1-EE19-4FC4-8589-5DF084B7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3A763-90DC-40B3-9A9E-64066F25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5827-6AC7-461C-A6D9-85EDE909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E0D8A-69D0-4E39-A876-B1F6A4B4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167F-835C-40E0-A22E-81243E4E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EEF4-5982-4723-86B7-0321DEB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B9B3C-902B-41A8-81E2-FE9C9428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E70-D0AC-4305-B28D-F64CBBC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DDDBA-B2D2-46DD-9F61-5AD30AB0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3B05-6D7B-4647-9A72-87AB7EEF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0E35-DB0B-471D-AF25-02D0C0BB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E13CB-BFE4-4BD9-9CA4-03230DC2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AA974-D2C3-456D-BEB3-08700BE8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CEA3-880F-4756-86F7-8D04A48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E389D-24D5-46B0-8D2E-3A654DA7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80F6-838F-4A23-B30A-D4E9A20F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30524-E827-4D99-9576-F7E62CF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30FE-6EC7-4233-9F7F-DEAB81F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98B-4500-47C3-8D86-9074612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159C1-6E1E-4937-8263-9AE0C6F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AA7A7-FF15-4FC0-BB52-20EC412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6242A-CAA0-49EF-AAC5-DB46E3F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873DB-8665-4D15-AA07-6C6107AC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C3687-3ABC-4E20-9721-D495E41E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9F36B-3188-425D-8406-08336342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138FD-C7F8-4875-B8C7-9C8EDBD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8EB53-8892-4DFD-8763-DB1B65BC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DEE2A-93EC-43F1-AF53-D2407F9C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DCC0-838A-4C07-87D5-1DDBE0D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138-7B8D-4A13-9774-3D7DC5FA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B9F99-8A71-458E-B79C-32FF47C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78631-698B-4946-A1FC-72493163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65D9E-E6B8-4795-A577-4636C17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6BE3-169A-464A-AE48-175F17BD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F4504-C730-4870-8B88-2F7F0B70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8267C-7EF9-45DC-8805-C0FB953C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EFD1-57A7-4B7A-A566-B06EDA73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82196-52EB-4E96-89CF-398365B1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29A4C-1E58-4EDE-9311-166AB0BC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C541D-867D-4F5F-8F76-5ECBE4B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06550-0931-410A-AFC9-C72D31E3E04D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34869-30E5-469C-860A-818D962792D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FFB98-7599-40D9-91D7-E0BE5E2BA27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9C69D-DE46-4B2F-A5B5-BE326764DB4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63FEA-2829-437F-ABC0-20BD1B8601B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59744-F163-4705-9122-DC14439CF3AE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B39AA-8DB3-4115-8BBD-1C441C1B2C66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5D315-5E07-44EA-9041-6E98F7CB359A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87053-E9A4-4785-A4DD-9A8B41A92DB4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198FC-72F2-44D7-A2E3-B0AD00B3CD20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27B25-BABA-4D5A-8B45-3208FC91E221}" type="slidenum">
              <a:rPr b="0" lang="ru-RU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900" spc="-1" strike="noStrike">
                <a:solidFill>
                  <a:srgbClr val="bc658e"/>
                </a:solidFill>
                <a:latin typeface="Gill Sans MT"/>
              </a:rPr>
              <a:t>ЭПИТЕТ. </a:t>
            </a:r>
            <a:br>
              <a:rPr sz="4900"/>
            </a:br>
            <a:r>
              <a:rPr b="0" lang="en-US" sz="4900" spc="-1" strike="noStrike">
                <a:solidFill>
                  <a:srgbClr val="bc658e"/>
                </a:solidFill>
                <a:latin typeface="Gill Sans MT"/>
              </a:rPr>
              <a:t>C</a:t>
            </a:r>
            <a:r>
              <a:rPr b="0" lang="ru-RU" sz="4900" spc="-1" strike="noStrike">
                <a:solidFill>
                  <a:srgbClr val="bc658e"/>
                </a:solidFill>
                <a:latin typeface="Gill Sans MT"/>
              </a:rPr>
              <a:t>РАВНЕНИЕ.</a:t>
            </a:r>
            <a:br>
              <a:rPr sz="4900"/>
            </a:br>
            <a:r>
              <a:rPr b="0" lang="ru-RU" sz="4900" spc="-1" strike="noStrike">
                <a:solidFill>
                  <a:srgbClr val="bc658e"/>
                </a:solidFill>
                <a:latin typeface="Gill Sans MT"/>
              </a:rPr>
              <a:t>МЕТАФОРА. ОЛИЦЕТВОРЕНИЕ. </a:t>
            </a:r>
            <a:endParaRPr b="0" lang="en-US" sz="4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bc658e"/>
                </a:solidFill>
                <a:latin typeface="Gill Sans MT"/>
              </a:rPr>
              <a:t>              </a:t>
            </a:r>
            <a:r>
              <a:rPr b="0" lang="ru-RU" sz="3200" spc="-1" strike="noStrike">
                <a:solidFill>
                  <a:srgbClr val="bc658e"/>
                </a:solidFill>
                <a:latin typeface="Gill Sans MT"/>
              </a:rPr>
              <a:t>ЭПИТЕТ -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 algn="just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ill Sans MT"/>
              </a:rPr>
              <a:t>художественное образное определение, выраженное чаще всего прилагательным:                          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187200" indent="-1872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Содержимое 3" descr="2632525[1].jpg"/>
          <p:cNvPicPr/>
          <p:nvPr/>
        </p:nvPicPr>
        <p:blipFill>
          <a:blip r:embed="rId1"/>
          <a:stretch/>
        </p:blipFill>
        <p:spPr>
          <a:xfrm>
            <a:off x="142920" y="214200"/>
            <a:ext cx="5248080" cy="350064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4" descr="8f6a1f8e0f49[1]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6"/>
          <p:cNvSpPr/>
          <p:nvPr/>
        </p:nvSpPr>
        <p:spPr>
          <a:xfrm>
            <a:off x="5000760" y="621180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огучий дуб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Прямоугольник 8"/>
          <p:cNvSpPr/>
          <p:nvPr/>
        </p:nvSpPr>
        <p:spPr>
          <a:xfrm>
            <a:off x="169560" y="3000240"/>
            <a:ext cx="39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винцовые тучи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Gill Sans MT"/>
              </a:rPr>
              <a:t>СРАВНЕНИЕ -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42600" y="18572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художественный приём, который основан на уподоблении одного предмета, явления другому. Часто выражается сравнительным оборотом с союзами КАК, КАК БУДТО, СЛОВНО, ТОЧНО и др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Содержимое 3" descr="ilpsh01.bmp"/>
          <p:cNvPicPr/>
          <p:nvPr/>
        </p:nvPicPr>
        <p:blipFill>
          <a:blip r:embed="rId1"/>
          <a:stretch/>
        </p:blipFill>
        <p:spPr>
          <a:xfrm>
            <a:off x="214200" y="571680"/>
            <a:ext cx="3971880" cy="5067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4214880" y="714240"/>
            <a:ext cx="47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 ним живая голо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ы очи сном объят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пит, качая шлем                                  пернатый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ер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тёмной высоте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ак т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ходят, развеваяс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А.С. Пушки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услан и Людмила»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851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ru-RU" sz="3200" spc="-1" strike="noStrike">
                <a:solidFill>
                  <a:srgbClr val="bc658e"/>
                </a:solidFill>
                <a:latin typeface="Gill Sans MT"/>
              </a:rPr>
              <a:t>МЕТАФОРА -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50920" y="1125360"/>
            <a:ext cx="844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ill Sans MT"/>
              </a:rPr>
              <a:t>употребление слов и выражений в переносном смысле на основании аналогии, сходства, сравнения.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Gill Sans MT"/>
              </a:rPr>
              <a:t>Метафора – это скрытое сравнение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500" spc="-1" strike="noStrike">
                <a:solidFill>
                  <a:srgbClr val="ff9900"/>
                </a:solidFill>
                <a:latin typeface="Gill Sans MT"/>
              </a:rPr>
              <a:t>Осень жёлтые флаги развесила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Gill Sans MT"/>
              </a:rPr>
              <a:t>ОСЕНЬ ЖЁЛТЫЕ ФЛАГИ РАЗВЕСИ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5" name="Picture 3" descr="C:\Users\Kit\Desktop\АТТЕСТАЦИЯ\01.jpg"/>
          <p:cNvPicPr/>
          <p:nvPr/>
        </p:nvPicPr>
        <p:blipFill>
          <a:blip r:embed="rId1"/>
          <a:stretch/>
        </p:blipFill>
        <p:spPr>
          <a:xfrm>
            <a:off x="1655640" y="1882800"/>
            <a:ext cx="5830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bc658e"/>
                </a:solidFill>
                <a:latin typeface="Gill Sans MT"/>
              </a:rPr>
              <a:t>     </a:t>
            </a:r>
            <a:r>
              <a:rPr b="0" lang="ru-RU" sz="3200" spc="-1" strike="noStrike">
                <a:solidFill>
                  <a:srgbClr val="ff0000"/>
                </a:solidFill>
                <a:latin typeface="Gill Sans MT"/>
              </a:rPr>
              <a:t>ОЛИЦЕТВОРЕНИЕ -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ill Sans MT"/>
              </a:rPr>
              <a:t>наделение неживых предметов человеческими чувствами, мыслями, поступками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7720" indent="-20772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7720" indent="-20772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7720" indent="-20772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7720" indent="-20772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Gill Sans MT"/>
              </a:rPr>
              <a:t>И звезда с звездою говорит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7720" indent="-207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Gill Sans MT"/>
              </a:rPr>
              <a:t>И ЗВЕЗДА С ЗВЕЗДОЮ ГОВОРИТ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Содержимое 3" descr="fon[1].gif"/>
          <p:cNvPicPr/>
          <p:nvPr/>
        </p:nvPicPr>
        <p:blipFill>
          <a:blip r:embed="rId1"/>
          <a:stretch/>
        </p:blipFill>
        <p:spPr>
          <a:xfrm>
            <a:off x="1143000" y="1428840"/>
            <a:ext cx="69292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35:55Z</dcterms:created>
  <dc:creator>303</dc:creator>
  <dc:description/>
  <dc:language>en-US</dc:language>
  <cp:lastModifiedBy>Дарья Кичерман</cp:lastModifiedBy>
  <dcterms:modified xsi:type="dcterms:W3CDTF">2020-10-04T07:40:34Z</dcterms:modified>
  <cp:revision>27</cp:revision>
  <dc:subject/>
  <dc:title>Метафора. Олицетворение. Эпитет.</dc:title>
</cp:coreProperties>
</file>