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E3654-2A30-4873-8303-3B481602EB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3519B-F2E8-4561-9E5D-22536442B1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A75-5CEB-4EF8-A30D-C5700563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56D-F6F9-4146-BDA2-D5094A9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070-9BE4-4251-8BBE-E806D494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B4E-4AC7-4AD2-B4DB-776D3F98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E5B-67DA-4B52-A86F-C973362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488-6847-4EAE-81E5-1B490F6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D61-B827-40EE-8A75-8D218D6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85C-C510-4177-83B5-F07EE6A1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E54-1CE7-4C1C-8079-F280B1EE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C68-1EAE-4765-A253-82EDB099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094-F72B-49BB-83C8-032D30C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725-8B74-445B-9957-AFA36F54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32AD59-0D04-402B-8BE7-E8333EF2F3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54160" y="279360"/>
            <a:ext cx="101930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Урок литературного ч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r>
              <a:rPr b="1" i="1" lang="ru-RU" sz="6000" spc="-1" strike="noStrike">
                <a:solidFill>
                  <a:srgbClr val="000000"/>
                </a:solidFill>
                <a:latin typeface="Garamond"/>
              </a:rPr>
              <a:t>в 1 кла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182520" y="4565520"/>
            <a:ext cx="2438280" cy="21099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1762200" y="-285840"/>
            <a:ext cx="6143400" cy="1906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397240" y="2279520"/>
            <a:ext cx="678636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В названиях каких предметов классной комнаты есть новые звуки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G:\Картинки\457.gif"/>
          <p:cNvPicPr/>
          <p:nvPr/>
        </p:nvPicPr>
        <p:blipFill>
          <a:blip r:embed="rId1"/>
          <a:stretch/>
        </p:blipFill>
        <p:spPr>
          <a:xfrm>
            <a:off x="0" y="136440"/>
            <a:ext cx="2637000" cy="205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 rot="20634600">
            <a:off x="617040" y="377640"/>
            <a:ext cx="815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Спасибо 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Новых открытий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   </a:t>
            </a:r>
            <a:r>
              <a:rPr b="1" lang="ru-RU" sz="7200" spc="-1" strike="noStrike">
                <a:solidFill>
                  <a:srgbClr val="ff0000"/>
                </a:solidFill>
                <a:latin typeface="Garamond"/>
                <a:ea typeface="Calibri"/>
              </a:rPr>
              <a:t>и новых знани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Admin\Рабочий стол\cвеча\635361206.gif"/>
          <p:cNvPicPr/>
          <p:nvPr/>
        </p:nvPicPr>
        <p:blipFill>
          <a:blip r:embed="rId1"/>
          <a:stretch/>
        </p:blipFill>
        <p:spPr>
          <a:xfrm>
            <a:off x="1611360" y="851040"/>
            <a:ext cx="6923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муха.gif"/>
          <p:cNvPicPr/>
          <p:nvPr/>
        </p:nvPicPr>
        <p:blipFill>
          <a:blip r:embed="rId1"/>
          <a:stretch/>
        </p:blipFill>
        <p:spPr>
          <a:xfrm>
            <a:off x="1682640" y="708120"/>
            <a:ext cx="66438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6" descr=""/>
          <p:cNvPicPr/>
          <p:nvPr/>
        </p:nvPicPr>
        <p:blipFill>
          <a:blip r:embed="rId1"/>
          <a:stretch/>
        </p:blipFill>
        <p:spPr>
          <a:xfrm>
            <a:off x="1768320" y="-285840"/>
            <a:ext cx="8034480" cy="1906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2039760" y="1851120"/>
            <a:ext cx="692964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Звуки [м] ,[м']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Буквы М, 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истратор\Рабочий стол\ux4Ag6P3ff.png"/>
          <p:cNvPicPr/>
          <p:nvPr/>
        </p:nvPicPr>
        <p:blipFill>
          <a:blip r:embed="rId2"/>
          <a:stretch/>
        </p:blipFill>
        <p:spPr>
          <a:xfrm>
            <a:off x="396720" y="4994280"/>
            <a:ext cx="24386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5440" y="1257480"/>
            <a:ext cx="9001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познакомиться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325440" y="1865520"/>
            <a:ext cx="851868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выяснить    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96720" y="3194640"/>
            <a:ext cx="89298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научиться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6" descr=""/>
          <p:cNvPicPr/>
          <p:nvPr/>
        </p:nvPicPr>
        <p:blipFill>
          <a:blip r:embed="rId1"/>
          <a:stretch/>
        </p:blipFill>
        <p:spPr>
          <a:xfrm>
            <a:off x="1773360" y="-285840"/>
            <a:ext cx="9083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39640" y="2543400"/>
            <a:ext cx="900108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Уважай своего товарищ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25440" y="1483200"/>
            <a:ext cx="851868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Умей каждого выслуш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396720" y="2809080"/>
            <a:ext cx="89298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  <a:ea typeface="Calibri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  <a:ea typeface="Calibri"/>
              </a:rPr>
              <a:t>Не согласен – предлаг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6" descr=""/>
          <p:cNvPicPr/>
          <p:nvPr/>
        </p:nvPicPr>
        <p:blipFill>
          <a:blip r:embed="rId1"/>
          <a:stretch/>
        </p:blipFill>
        <p:spPr>
          <a:xfrm>
            <a:off x="317520" y="-285840"/>
            <a:ext cx="118317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396720" y="4994280"/>
            <a:ext cx="2438640" cy="21099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768320" y="-285840"/>
            <a:ext cx="6821640" cy="1906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039760" y="1851120"/>
            <a:ext cx="692964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Предположим, что звуки [м] ,[м'] соглас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182520" y="4565520"/>
            <a:ext cx="2438280" cy="21099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1768320" y="-285840"/>
            <a:ext cx="8412480" cy="1906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540160" y="2279520"/>
            <a:ext cx="61434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ой первый звук в слов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он произноситс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Администратор\Рабочий стол\ux4Ag6P3ff.png"/>
          <p:cNvPicPr/>
          <p:nvPr/>
        </p:nvPicPr>
        <p:blipFill>
          <a:blip r:embed="rId1"/>
          <a:stretch/>
        </p:blipFill>
        <p:spPr>
          <a:xfrm>
            <a:off x="182520" y="4565520"/>
            <a:ext cx="2438280" cy="21099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-285840"/>
            <a:ext cx="9364680" cy="19065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540160" y="1636560"/>
            <a:ext cx="6715080" cy="62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выглядит новая бук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На что она похож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можно её изобразить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30:12Z</dcterms:created>
  <dc:creator/>
  <dc:description/>
  <dc:language>en-US</dc:language>
  <cp:lastModifiedBy>Admin</cp:lastModifiedBy>
  <dcterms:modified xsi:type="dcterms:W3CDTF">2011-10-19T16:13:32Z</dcterms:modified>
  <cp:revision>32</cp:revision>
  <dc:subject/>
  <dc:title>Слайд 1</dc:title>
</cp:coreProperties>
</file>