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marL="216000"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F3EF7-0C7A-49C3-B7A4-D336F17A0127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5D5D3-C8B6-48EF-897F-5310BC652AB7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1051C-2F42-44CD-A3A9-D6D72C9AA9F2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2FCF4-3CAA-42C7-83FB-E9B51EC50092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CECB1-31D6-4F42-81DA-913598636D4F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BC8D8-BA2C-4E14-B4D5-9FF28246366A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69C5C-46C8-4F25-AE19-AF18E059F7B7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FF79E-E6D4-4E53-94E4-0763957CCF2C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BE1D7-90B4-484C-961F-E5208BD00B14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A20F9-D5C0-49FA-A0EB-E518AC70ED1C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DE137-3A70-4B27-8BF6-AD9E1EFBC9FD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C510C-FA3D-4ECF-A56D-CD55E69E27ED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B8523-7E0F-4146-816C-5329FE82248F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08E24-8B42-428D-AABB-1921EB9C128A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2D122-10C5-4A8B-83F4-39AF9F70AA9E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A9EFB-C1E9-4281-81B0-14E67F822477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3EFA3-0890-4DD6-8948-6506D7C85FA5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3A816-F0E2-4AB3-B09D-C662DB1326C2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947FF-EBCF-4154-A41A-23524D8E6740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7FB4D-C2B6-4051-B86D-B4CA40A0BB4A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FD2A6-CDE6-4138-BF7D-53FC2DA8CA6D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8B8FB-711C-4C47-A0ED-FB024C3E4A6E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76B4A-D9FA-4313-8D89-9CCFA31CD2F2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5A8-7CE1-4DE1-8DD6-9AE88282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718-86A4-43B2-A063-070D8163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BD3-21A9-465C-8625-021D8B3B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04B-5AA7-4DE2-987D-FF67EF04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31BC-C10D-42F9-8E0A-D8F8C8DE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F280-40DC-436F-94E6-7EE61851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A0ED-6534-4778-80BF-8E54065B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B227-BA6C-43EB-9BA2-683F0128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6E08-8323-412A-9664-4300BD2A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1E71-2F99-4314-ACC7-27B51DCB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B289-FE64-46AB-86A8-96036AB5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BDD-4FCD-4C45-8AA3-3177F659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B2EF-0CC0-4420-97EA-2E66018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E4A2-9E08-44E5-B7DC-FA76AC8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A238-C4E7-4879-BF6E-3A93904F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12EE-72ED-4582-A269-A0AE51C4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6406-980E-4BAC-8077-5DA9D25C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7B8-EE3C-49FA-8802-5FE055EF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A44-76FA-46E1-A409-963A9B79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1AC-F2E7-4491-B7BF-F3D11688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AF6-94CF-4286-AFB9-4061699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66A-1B8F-4802-B858-1B67166C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019-78A0-4A79-A148-F3E81A7B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939-CFD4-4FC0-BD2E-3676407F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743040" indent="-285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11430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16002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0574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0574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0574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8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marL="21600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990789-1282-468E-9E5D-2239B6A6FFE8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490320" indent="-1886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75420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105588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135756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135756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135756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8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marL="216000"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4F389B-FEE8-485C-8068-1078F5DFF827}" type="slidenum">
              <a:rPr b="1" lang="ru-RU" sz="18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video" Target="" TargetMode="External"/><Relationship Id="rId3" Type="http://schemas.microsoft.com/office/2007/relationships/media" Target="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" TargetMode="External"/><Relationship Id="rId3" Type="http://schemas.microsoft.com/office/2007/relationships/media" Target="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video" Target="" TargetMode="External"/><Relationship Id="rId3" Type="http://schemas.microsoft.com/office/2007/relationships/media" Target="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360" y="3330360"/>
            <a:ext cx="9360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Новосибирск — город трудовой доблести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76720" y="4966920"/>
            <a:ext cx="44640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ource Sans Pro Light"/>
              </a:rPr>
              <a:t> </a:t>
            </a:r>
            <a:endParaRPr b="1" lang="en-US" sz="22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79640" y="1944720"/>
            <a:ext cx="7991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431640"/>
            <a:ext cx="1008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480000" y="6027840"/>
            <a:ext cx="3527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126B773-85CE-4CD6-8A64-3A4A449D0FE3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Первый мост через Обь, был спроектирован за 5 дней, а построен за 25 дней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16000" y="1584360"/>
            <a:ext cx="90961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B38CDA9-EA17-42F4-896F-CD5935958A7A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Новосибирск принимал раненых со всех уголков страны. Всего в Новосибирске было открыто 65 госпиталей на 70 тысяч человек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152360" y="1614600"/>
            <a:ext cx="763272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D0F0711-9A73-496F-902A-31D512E1115A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Завод имени Чкалова выпускал 33 боевых самолёта каждый день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3280" y="1584360"/>
            <a:ext cx="885672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72F7A26-EF07-4F0F-BFCE-D76C0BB38CA0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Паровоз Н. Лунина занимает почётное место над путепроводом Димитровского моста в Новосибирске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40000" y="1495440"/>
            <a:ext cx="3527280" cy="5200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5543640" y="2303640"/>
            <a:ext cx="37432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олай Лунин лично доставил в Москву эшелон со 100 вагонами угля, общим весом 5 тысяч тонн. Был награждён званием Героя Социалистического Труд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DDB1341-1EF5-4F4B-B0AA-B8D014F3D6A8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360" y="10800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На новосибирских заводах трудились женщины, старики, дети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224000" y="1584360"/>
            <a:ext cx="7488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99E9E71-EC9A-4EE8-9AC3-6CE00335C848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360" y="287280"/>
            <a:ext cx="93600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За два года колхозы и совхозы Новосибирской области сдали государству урожай, которого достаточно для годового обеспечения пайком 100 дивизий. 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152360" y="1563840"/>
            <a:ext cx="786132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4C4C423-D6E8-449B-A141-428A907D37CC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Завод по производству боеприпосов «Искра»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431640" y="2303640"/>
            <a:ext cx="5592960" cy="3671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6264360" y="2735280"/>
            <a:ext cx="302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обеспечить фронт необходимым количеством боеприпасов, люди работали по 12-14 часов в стуки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056666C-0ACC-4765-A5DF-BF1F16A5A73A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360" y="107640"/>
            <a:ext cx="9360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В здании театра Оперы и балета размещались эвакуированные экспонаты музеев. Театр стал хранилищем сокровищ мирового и национального искусства. 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36720" y="1584360"/>
            <a:ext cx="7823160" cy="51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BD1236-DE9A-4756-8961-793B02B3F4AB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Первый Парад Победы состоялся 24 июня 1945 года на Красной площади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92000" y="1584360"/>
            <a:ext cx="8163000" cy="424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36720" y="5975280"/>
            <a:ext cx="82072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а Михаила Хмелько «Триумф победившей Родины». В центре картины солдат, бросивший к подножью трибун штандарт рейха со свасти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215280" y="676764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50130C3-5570-4AE7-BF9B-2EB16DFD9FAF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144000"/>
            <a:ext cx="936000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Традиционно День Победы отмечается 9 мая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71280" y="1511280"/>
            <a:ext cx="1003788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981961E-3CE3-41FF-83C3-998E596CBAA5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124920"/>
            <a:ext cx="87836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75-летие Великой Победы!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1511280"/>
            <a:ext cx="10142640" cy="54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B36A68B-4956-4E72-B155-3AD9911E0D80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2 июля 2020 года Новосибирску присвоено почётное звание «Город трудовой доблести»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69960" y="1692360"/>
            <a:ext cx="890568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388CA2B-63A2-4651-88E3-19EA1576914F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0360" y="70920"/>
            <a:ext cx="936000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Настала тишина твоя, Победа!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003320" y="1511280"/>
            <a:ext cx="3676680" cy="5151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5184720" y="2232000"/>
            <a:ext cx="410364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а Александра Лактионова «Письмо с фронта». Сюжет этой картины художнику подсказала сама жизнь - однажды он встретил в городе раненого солдата, который искал адрес, по которому сослуживец попросил его доставить письмо. Лактионов помог солдату и вместе с ним стал свидетелем событий, лёгших в основу полот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85D0E0C-2061-4D88-A919-2A08586048F4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10086840" cy="71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EE38388-CD33-4F52-93C4-81E8B2FB407A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7280" y="360000"/>
            <a:ext cx="9360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22 июня 1941 года ровно в 4 часа утра Фашистская Германия напала на Союз Советских Социалистических Республик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47640" y="1511280"/>
            <a:ext cx="3564000" cy="5259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5184720" y="2379600"/>
            <a:ext cx="4680000" cy="40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т самый длинный день в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его безоблачной погод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м выдал общую бе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сех, на все четыре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такой вдавила сле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тольких наземь положил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вадцать лет и тридцать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ым не верится, что жи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к мертвым выправив билет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едет кто-нибудь из близ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ремя добавляет в спи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е кого-то, кого-то не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 Сим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85400" y="6810480"/>
            <a:ext cx="606240" cy="60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51F5F73-3B93-425A-9AED-71F7D7970DEE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16000" y="1584360"/>
            <a:ext cx="6048360" cy="4921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624720" y="2592360"/>
            <a:ext cx="3095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а Валентина Папко «Даже не снилось. 22 июня 1941 г.». Художник показал войну, не изображая батальных сцен, смерти, крови, взрывов.  Он поставил счастье на пути надвигающегося гор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FA10532-AEAE-441C-B08F-62EBF2D18437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60360" y="1511280"/>
            <a:ext cx="5111640" cy="5262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904000" y="2376360"/>
            <a:ext cx="3743280" cy="40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а Ильи Овчаренко «Лето 41 года». Художник стремился показать бесчеловечность войны, на примере простой семьи, когда в одночасье она безжалостно ворвалась в привычный жизненный уклад людей, принося много горя и потерь. Фигура солдата, покидающего родной дом, отражается в лопнувшем оконном стекле, символизируя уход солдата в вечнос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3EA9D0D-286E-4321-94EB-40E0A4276655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4000" y="-36360"/>
            <a:ext cx="9359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Минута молчания 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B8F8A4C-9035-440A-A04D-348517593BA4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26 июня 1941 года первые эшелоны начали погрузку и отправку на фронт солдат. 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92000" y="1514520"/>
            <a:ext cx="8562960" cy="525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354960" y="6796080"/>
            <a:ext cx="648000" cy="5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F0F084D-B1EA-4C9F-BC64-BE0B96AD0693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3 июля 1941 года стали пребывать первые эшелоны с эвакуированными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863640" y="1584360"/>
            <a:ext cx="827388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8E3CA94-A8CD-49FC-993E-2711459DE0EB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60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Всё для фронта, всё для Победы!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76360" y="1511280"/>
            <a:ext cx="5975640" cy="532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3T09:57:23Z</dcterms:created>
  <dc:creator/>
  <dc:description/>
  <dc:language>en-US</dc:language>
  <cp:lastModifiedBy>User</cp:lastModifiedBy>
  <dcterms:modified xsi:type="dcterms:W3CDTF">2020-08-31T12:50:18Z</dcterms:modified>
  <cp:revision>4</cp:revision>
  <dc:subject/>
  <dc:title>Alizarin</dc:title>
</cp:coreProperties>
</file>